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188-397A-40D8-824F-8991F6DA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916-3338-4105-ABA9-44EF96F2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279-E424-447F-86A9-BEDCEBC6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451-D969-4217-B87A-C3F9F10B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E0F-9637-472E-AE72-37F9AFEA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6B6-F18A-4D11-81B8-4BE715F1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856-805B-4477-984D-91254A34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4CE-516C-4091-B522-4F2EB596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C0A-619C-4105-8434-ABD3AC11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887-C29F-4E9A-A45C-F168AD6D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AAE-7B0C-4D80-83E5-C02D42A9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70D-7099-4C78-AE0B-EBF25105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A84C-CB91-49E6-9708-0E3AFCA6D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841320"/>
            <a:ext cx="5977080" cy="546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260280"/>
            <a:ext cx="7296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ranstaltungen 201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413000"/>
            <a:ext cx="860400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02.06.11 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Himmelfahrts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18.06.11 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Amtsausscheid auf d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„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alten“ Sportplatz – Chausseestraß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06.08.11 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Dorff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03.12.11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Weihnachtsmar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17.12.11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Tw Cen MT Condensed Extra Bold"/>
              </a:rPr>
              <a:t>Weihnachtsmar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8:16:07Z</dcterms:created>
  <dc:creator>Steffi</dc:creator>
  <dc:description/>
  <dc:language>en-US</dc:language>
  <cp:lastModifiedBy>Steffi</cp:lastModifiedBy>
  <dcterms:modified xsi:type="dcterms:W3CDTF">2011-04-18T08:37:10Z</dcterms:modified>
  <cp:revision>4</cp:revision>
  <dc:subject/>
  <dc:title>Folie 1</dc:title>
</cp:coreProperties>
</file>